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385-256D-4A91-B159-815412EB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702-0D99-450E-B7D7-5692481D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A37-B4BD-464D-9907-9FB7D86D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9C3-8AD0-45DE-ABE8-699B0E31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61C-1E93-42FE-9B61-18883376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E45-6F1D-4F30-A528-4C27212D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460-8566-47B7-9CEB-F05CF46C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8BE-50E5-4CA2-9719-0936F70D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C04-02B8-41A0-A6A3-E1D02F1F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BCE-6B54-42E5-BB20-1C0F4408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EFA-1154-460E-976A-A84BD856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683-A754-422D-B6C3-9B902923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3F2F-AD92-401E-8876-950D70A69E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Unit 3: Soci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1079640" y="1243080"/>
            <a:ext cx="6991200" cy="22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1908000" y="3189240"/>
            <a:ext cx="53280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3" descr=""/>
          <p:cNvPicPr/>
          <p:nvPr/>
        </p:nvPicPr>
        <p:blipFill>
          <a:blip r:embed="rId2"/>
          <a:stretch/>
        </p:blipFill>
        <p:spPr>
          <a:xfrm>
            <a:off x="974880" y="5711760"/>
            <a:ext cx="85168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nthropologists use demographic facto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tudy the reasons for changing patterns in population growth within countries and within specif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mographers have identified several different generations born during the past half centu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785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aby Bo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2133720"/>
          <a:ext cx="8229600" cy="3970080"/>
        </p:xfrm>
        <a:graphic>
          <a:graphicData uri="http://schemas.openxmlformats.org/drawingml/2006/table">
            <a:tbl>
              <a:tblPr/>
              <a:tblGrid>
                <a:gridCol w="2057400"/>
                <a:gridCol w="2776320"/>
                <a:gridCol w="1513080"/>
                <a:gridCol w="1882800"/>
              </a:tblGrid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graphic 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s/Nick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 B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6 to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pp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Baby b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baby b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-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aby Bo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rn 1946-1966 (Post WWII 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omers grew up at a time of dramatic soc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boomers found that their music, most notably rock and roll, was another expression of their generation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would have the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aby Bo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Listening to the sound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he Beatles - Hey Jude.mp3" descr=""/>
          <p:cNvPicPr/>
          <p:nvPr/>
        </p:nvPicPr>
        <p:blipFill>
          <a:blip r:embed="rId1"/>
          <a:stretch/>
        </p:blipFill>
        <p:spPr>
          <a:xfrm>
            <a:off x="8244000" y="566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aby Boomers: Generatio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rn in 1960-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haracterized by materialism and hig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fused to conform to societies values and lived by  “their own ru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hanges in one of two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2421000"/>
            <a:ext cx="8871120" cy="453708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3" descr=""/>
          <p:cNvPicPr/>
          <p:nvPr/>
        </p:nvPicPr>
        <p:blipFill>
          <a:blip r:embed="rId2"/>
          <a:stretch/>
        </p:blipFill>
        <p:spPr>
          <a:xfrm>
            <a:off x="-347760" y="2249640"/>
            <a:ext cx="2895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different demographic groups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 of the baby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movement of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3" descr=""/>
          <p:cNvPicPr/>
          <p:nvPr/>
        </p:nvPicPr>
        <p:blipFill>
          <a:blip r:embed="rId2"/>
          <a:stretch/>
        </p:blipFill>
        <p:spPr>
          <a:xfrm>
            <a:off x="-347760" y="2090880"/>
            <a:ext cx="484668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movement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Popul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atural Increase Rate- when the # of births exceeds the number of d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et Migration- the difference between immigrants and e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mography- study of human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mographers provide many useful service for a nation and lots of useful data for anthropologists and sociolog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y using population statistics they can identify different age segments and make recommendations about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-384120" y="1432080"/>
            <a:ext cx="29383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ore importantly, demographers project population growth rates into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overnments use demographic forecasts to plan ahead f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3438360" y="1384200"/>
            <a:ext cx="60296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emographic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-347760" y="5797440"/>
            <a:ext cx="76867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54:32Z</dcterms:created>
  <dc:creator>Mariajose</dc:creator>
  <dc:description/>
  <dc:language>en-US</dc:language>
  <cp:lastModifiedBy>Jason</cp:lastModifiedBy>
  <dcterms:modified xsi:type="dcterms:W3CDTF">2010-12-06T15:34:23Z</dcterms:modified>
  <cp:revision>15</cp:revision>
  <dc:subject/>
  <dc:title>TITLE</dc:title>
</cp:coreProperties>
</file>